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A11C-150F-433A-B99D-75081A57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9BD5-1692-4498-8A4D-61696C1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DE7D-83FE-466A-AD20-48CC028E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3856-7B7B-43C7-8716-0E31B8B5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5B7C-BDC1-44C8-9F86-DC12FE30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C0C-01F1-4D8F-B1D3-5B57A9B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997-67FF-4C69-9D01-9BBCA02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0EA2-F38D-4001-9CCB-501E88C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AA87-B81E-4E68-8420-C5CD16C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D190-800D-4152-848C-C3AC1A25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33C-2D47-4EE3-B4DF-7F4086E6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28FA-291A-4751-9F3C-71468D9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266B-49B9-4307-9A3F-9896A0B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564B-ED38-424E-B749-F0A6DAA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56EE-590F-4593-9DB5-84F73CE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D618-5C75-427A-9FA4-146540F3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3303-1450-4421-B0E2-8E864CEE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8A6D-AEF4-43B7-935F-2B889BAA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41FD-CEC3-49D0-B87D-E83DD26A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7B67-49AE-4E4B-901B-49DFF822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DA4A-F924-437C-B2D4-CD5657B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9E03-1BAC-4E76-B5F3-AF6CA5D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4BF6-4116-4B0B-AAC8-5B98574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EA0F-5360-4EBE-B0E6-CF2037D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F5EE-191B-4CD6-AEED-BAC8DF2A18B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329-A9F6-43F4-81F8-01B7CB61E0F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comic"/>
              </a:rPr>
              <a:t>Industrialization and the Progressive Respons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ything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olded and underline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s something you definitely need to know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were the farmers ma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one got something good out of the deal except the farm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banks made out quite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led to the creation of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nge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attempted to organize to help themselves – formed “cooperatives” – tried to increase 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state Commerce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ped RR from giving reb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the Interstate Commerce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 note – because of trains we have time zon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of Mo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wanted more paper money (wanted inflation) - easier for deb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ers wanted money backed by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ld standard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repayment better for them – no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ended up passing a law that was semi-helpful to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utcome of these Rural happenings was the 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Populist Party (populism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, labor leaders, refo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 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ownership of RR and communication medi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igration 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illiam Jennings Bryan – key 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essive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gap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s were the urban popu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ized the ills of industrial society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e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urba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afe work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san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upt political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essive Ide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justice – federal graduated income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view of social darwi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mass-circulation journ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mopolitan magaz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ckrakers – realism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da Tarbe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History of Standard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Riis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w the Other Half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on Sinclair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Ju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to solve some of the major social problems of the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orming the workpl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pai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ges (national minimum wage – 193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as work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 were passed but they were hard to en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rgument against la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d 1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endment – “prohibits states from depriving any person of life, liberty, pr property without process of law” – it was unfair to take away their livelih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ghting for refor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L (st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in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hting for closed shops (not op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Workers of the World (Wob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ist – very radical – many did not lik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Hayw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etal 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 publishing, movie production,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y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hibition  - 18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mendment – repealed in 19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men’s suffrage (19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Amendment) 1920 (we’ll come back to t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ons of workers were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ion in fac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of raw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ation of g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African Americans met with especially fierce in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1 – 7400 Southern blacks have industrial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– there were 4million freed slaves in 1865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killed labor had dirty, disgusting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children worked too – out of neces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ce Related Ref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E.B. DuB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ssociation for the Advancement of Colored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dian progress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ddam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the 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orrow’s registration day – take a look at the classes available to you – we went over them the other day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W Tonight: Read excerpt from Jane Addams - you must read this and come in with it mar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ht also want to take a look at the notes you have taken on some of our most recent studies.  Tomorrow would be a good day for a short qu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forget janosco’s reading of daisy miller ei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wner opinion of lab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were inputs into th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days a week, many hours, bad conditions, little pay – no humane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s felt no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towns – paid in sc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sharecro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combat such injust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nights of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o workers traditionally excluded from other u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, men, skilled, and unskilled, and later, African Americans to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NEVER CHINESE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822504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ts in with Chinese Exclusion Act – prejudice – need based e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her Jones – labor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L were looking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hour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 pay for equal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child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Great Upheav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needed rights – huge wage c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sponse, 1886 – 1500 strikes involving 400,000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ago workers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aymarket Squ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organized by anarchists -met with violence when a bomb expl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How did companies figh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dog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ko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ebre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esponse to the Knights’ ca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erican Federation of Lab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FL) wa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ed to skilled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sociate themselves with the trouble ma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Gompers (the guy from the Triangle Shirtwaist factory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Strik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meste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 – lockout / strikebreakers (“Detectives”) -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ull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town prices went up, wages went down, workers boycotted, trains were hooked up to mail cars, fed gov forced boycotts en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ral Progressiv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farmers fac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production shrank profits and demand, prices continue to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bought more land to produce more (to make more money) but dropped prices even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could not pay lo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repossessed their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3:46:26Z</dcterms:created>
  <dc:creator>Darien Public Schools</dc:creator>
  <dc:description/>
  <dc:language>en-US</dc:language>
  <cp:lastModifiedBy>Balazs, Stephen</cp:lastModifiedBy>
  <dcterms:modified xsi:type="dcterms:W3CDTF">2017-03-08T00:59:40Z</dcterms:modified>
  <cp:revision>7</cp:revision>
  <dc:subject/>
  <dc:title>Industrialization and the Progressive Response</dc:title>
</cp:coreProperties>
</file>